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75C5-0FB9-4524-8F98-814971095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D9AA-EDC6-45D7-8C54-99DA57DC6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527E-4BD0-472A-9DA0-2CDEF9C5C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E661-8F57-4426-ACDA-0C61A37F0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CC77-71E0-4DEA-AD73-08B54F32F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D3B8-375E-4E3B-9068-1DB332456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51A3-EC21-44FC-A858-66C257DC7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E7F4-E55C-4B71-9AE0-801921DC2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DA00-EC7B-40DE-AECA-C2A2BE8F3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73D-CFE2-43CB-963C-4D50436B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D4A-67DA-4B9A-A606-5DF2EE5B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09F-30E9-4027-A429-AA61CB0F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997F-D01C-4F1C-8184-0EA07509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C312-0D9D-4965-9F20-D07219D1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F3A-7CF8-4DDE-882A-7002601E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39F-D544-4D11-8980-71A53AC2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022-3214-4DAE-8D06-DCE494B3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E93-EEE5-41E5-A2FF-DA6B9A2F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6D8-319B-4302-B0F7-7D59DAB0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EE3-BB4F-4A25-9E8C-2DCF4DE4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CDD-F2A3-427D-BB2D-BDF4DB8E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D829-312F-4FD2-8CA9-C44940E80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cnCWZP7l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Energy in the Water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ndentify types of energy and energy transformations associated with movement and/or change of mat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Straight Arrow Connector 5"/>
          <p:cNvCxnSpPr/>
          <p:nvPr/>
        </p:nvCxnSpPr>
        <p:spPr>
          <a:xfrm>
            <a:off x="1219320" y="2895120"/>
            <a:ext cx="915120" cy="305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3" name="TextBox 9"/>
          <p:cNvSpPr/>
          <p:nvPr/>
        </p:nvSpPr>
        <p:spPr>
          <a:xfrm>
            <a:off x="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ter Vapor in the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9" descr="Picture 1 08-31-43.png"/>
          <p:cNvPicPr/>
          <p:nvPr/>
        </p:nvPicPr>
        <p:blipFill>
          <a:blip r:embed="rId1"/>
          <a:stretch/>
        </p:blipFill>
        <p:spPr>
          <a:xfrm>
            <a:off x="2286000" y="2438280"/>
            <a:ext cx="6858000" cy="506124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70"/>
          <p:cNvGrpSpPr/>
          <p:nvPr/>
        </p:nvGrpSpPr>
        <p:grpSpPr>
          <a:xfrm>
            <a:off x="4952520" y="6400080"/>
            <a:ext cx="4191480" cy="456120"/>
            <a:chOff x="4952520" y="6400080"/>
            <a:chExt cx="4191480" cy="456120"/>
          </a:xfrm>
        </p:grpSpPr>
        <p:cxnSp>
          <p:nvCxnSpPr>
            <p:cNvPr id="76" name="Straight Arrow Connector 6"/>
            <p:cNvCxnSpPr/>
            <p:nvPr/>
          </p:nvCxnSpPr>
          <p:spPr>
            <a:xfrm flipH="1" flipV="1">
              <a:off x="4952520" y="6400080"/>
              <a:ext cx="838800" cy="229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77" name="TextBox 10"/>
            <p:cNvSpPr/>
            <p:nvPr/>
          </p:nvSpPr>
          <p:spPr>
            <a:xfrm>
              <a:off x="5790960" y="6487920"/>
              <a:ext cx="33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face Runo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7" descr="Picture 1 08-31-43.png"/>
          <p:cNvPicPr/>
          <p:nvPr/>
        </p:nvPicPr>
        <p:blipFill>
          <a:blip r:embed="rId1"/>
          <a:stretch/>
        </p:blipFill>
        <p:spPr>
          <a:xfrm>
            <a:off x="5334120" y="762120"/>
            <a:ext cx="4267080" cy="314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1219320"/>
          <a:ext cx="5105520" cy="1485720"/>
        </p:xfrm>
        <a:graphic>
          <a:graphicData uri="http://schemas.openxmlformats.org/drawingml/2006/table">
            <a:tbl>
              <a:tblPr/>
              <a:tblGrid>
                <a:gridCol w="1447920"/>
                <a:gridCol w="3657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Vapor in the Atmosp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 Water in Clo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 Water on the Su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 Water in a 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0" y="3733920"/>
          <a:ext cx="9144000" cy="2931840"/>
        </p:xfrm>
        <a:graphic>
          <a:graphicData uri="http://schemas.openxmlformats.org/drawingml/2006/table">
            <a:tbl>
              <a:tblPr/>
              <a:tblGrid>
                <a:gridCol w="1219320"/>
                <a:gridCol w="2971800"/>
                <a:gridCol w="1828800"/>
                <a:gridCol w="31240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p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Trans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Trans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/Pum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p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/Pum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en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vitational potentia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gravitational kine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p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vitationa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gravitational kine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3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Gravitational energy, thermal energy, and/or chemical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 energy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netic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a body has due to its m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he energy stored in a body due to its position or arrangement of its parts. Potential energy is converted into kinetic energy when matter moves or chemical energy when matter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vitation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that draws objects together.  On earth most gravitational energy is due to the attraction between the earth and other ob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of a body that results from the movement of molecules within the bod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that is due to the arrangement of atoms and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0" y="12254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kinetic energy of molecules. This is also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Do molecules move faster in cold or warm 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Molecules move faster in warm air because they have m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181480" y="6334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viamet.gr/user_images/molecules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molecules1.jpg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: Latent He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nt heat is the energy stored during a phase change.  This video demonstrates how the process of freezing releases he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youtube.com/watch?v=1PcnCWZP7l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6" name="Picture 6" descr="watercyclesummary.jpg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9" descr="Picture 1 08-31-43.png"/>
          <p:cNvPicPr/>
          <p:nvPr/>
        </p:nvPicPr>
        <p:blipFill>
          <a:blip r:embed="rId1"/>
          <a:stretch/>
        </p:blipFill>
        <p:spPr>
          <a:xfrm>
            <a:off x="1523880" y="2057400"/>
            <a:ext cx="68580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7:15:31Z</dcterms:created>
  <dc:creator>Julie Libarkin</dc:creator>
  <dc:description/>
  <dc:language>en-US</dc:language>
  <cp:lastModifiedBy>Duncan Sibley</cp:lastModifiedBy>
  <dcterms:modified xsi:type="dcterms:W3CDTF">2011-01-13T18:13:33Z</dcterms:modified>
  <cp:revision>306</cp:revision>
  <dc:subject/>
  <dc:title>PowerPoint Presentation</dc:title>
</cp:coreProperties>
</file>